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749-E76B-4D60-96E2-2DDEB36F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7DC-89CB-4B8B-99A3-02D7E038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74CC-7B3C-4F21-9975-9FCDE180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4113-AA39-4D72-BD8A-83084DF5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124C-1E04-4993-8717-F8F243A7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F00-F22E-40A8-9D4A-7CB96178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A95-9A8F-49A3-99AD-9908E818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61E-AA97-4E86-AC0C-A3E6AE2B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A2B8-DC02-494E-910C-97B018C2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41AD-4C35-4024-8A45-D60A5961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F7E7-F783-49F5-974F-BCBCA318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56D-B069-4F0D-B4E7-0DBD3EE6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26C1-DEAC-4037-ABE7-1CBF8D256B1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Practice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.1 REVI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214200" y="1582560"/>
            <a:ext cx="82868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the verb in the participle form indicated (all nom. mas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ραφω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ε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χομα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ε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ιζομα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σευχομα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700600" y="231300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ραψ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5700600" y="281952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ου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5715000" y="331308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χομεν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5715000" y="3830760"/>
            <a:ext cx="2786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ησα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5715000" y="435780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ισαμεν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5715000" y="485784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σευχομεν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42920" y="1357200"/>
            <a:ext cx="350028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βαλλοντ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φωνησ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ἐρχομενα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πεμψα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διωξαν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ἰδον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ἐλπιζουσα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ἐγειραντ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δεχομενο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643120" y="205740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Active Masculine Plural Nomi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2643120" y="251136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orist Active Masculine Singular Nomi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2643120" y="294624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Deponent Feminine Plural Da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643120" y="3387600"/>
            <a:ext cx="64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orist Active Neuter Singular Nominativ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ccus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2643120" y="3830760"/>
            <a:ext cx="628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orist Active Masculin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euter Singular D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2643120" y="4286160"/>
            <a:ext cx="600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orist Active Masculin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euter Geni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2643120" y="4726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Active Feminine Singular Accus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643120" y="518472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orist Active Masculine Plural Accus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2643120" y="5626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Deponent Masculine Plural Nomi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Practice 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14200" y="1508040"/>
            <a:ext cx="57866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οιγω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Fem. Acc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εω,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Masc. Nom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ηρυσσω,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Neut. Gen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πτομαι,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Masc. Dat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χομαι,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Neut. Nom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ευω,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Fem. Acc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6215040" y="231300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οιγουσ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6215040" y="281628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ησ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6215040" y="331308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ηρυξαν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215040" y="383076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πτομεν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215040" y="434340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θον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215040" y="483408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ευσασ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Practice 4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14200" y="1214280"/>
            <a:ext cx="5429520" cy="49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θων ἐθεραπευσεν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ναβαινων εἰδεν το πνευμ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υγοντες ἠλθον εἰς ἱε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βαπτιζεν τους πονηρου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ετανοησαντ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πομεν τοις ἐρχομενοις τεκνο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βλεψατε τους γραμματει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σελθοντας εἰς το ἱερ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4429080" y="19699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he had come, he healed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429080" y="246528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le he was going up, he saw the spir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4429080" y="3387600"/>
            <a:ext cx="47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y fled, they went into a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4429080" y="388764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baptizing the wicked people who had rep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4429080" y="4807080"/>
            <a:ext cx="47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spoke to the children as they c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4429080" y="528336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you see the scribes who had gone into the temp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983280" y="629928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Practice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4280" y="1214280"/>
            <a:ext cx="54295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ζητω την μελλουσαν βασιλε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αγαγουσα εἰδεν τον πατερα αὐτης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αλουντ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sus greeted the approaching crow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she saw she belie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harisee taught the Jews who we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king heard this he sent his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diers to find the chi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729320" y="131292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seeking the coming king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714920" y="180324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she departed she saw her father spea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745160" y="2703600"/>
            <a:ext cx="42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Ἰησους ἠσπασατο τον προσερχομενον ὀχλο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759200" y="362592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ἰδουσα ἐπιστευσε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4772160" y="4114800"/>
            <a:ext cx="42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Φαρισαιος ἐδιδαξεν τους ἀκουοντας Ἰουδαιου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4729320" y="5060880"/>
            <a:ext cx="46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κουσας τουτο ὁ βασιλευς ἀπεστειλεν (ἐπεμψεν) τους στρατιωτας αὐτου εὑρειν το  τεκνον (παιδιο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Practice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.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42920" y="996840"/>
            <a:ext cx="542916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ιλειτε τους μισουντας ὑμ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Μωϋσης ἁγιος ὠν ἐλεγεν τῳ θε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θελω εἰσελθων εἰς τη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υναγωγη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κουσαι του ῥαββ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εγον ἀλληλοις περι τω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γενομεν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saw the ones carrying the sick 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art and preach the gosp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786200" y="141444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ve those who hate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786200" y="187812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Moses was holy he used to speak to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786200" y="281628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nt to go into the synagogue and listen to the Rabb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4786200" y="375912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ere speaking to each other about what had happe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786200" y="467352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δον τους φεροντας τον ἀσθεν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4786200" y="5173560"/>
            <a:ext cx="46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αγαγων κηρυξον το εὐαγγελι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αγαγοντες κηρυξατε το εὐαγγελ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6:38:41Z</dcterms:created>
  <dc:creator>Sarah</dc:creator>
  <dc:description/>
  <dc:language>en-US</dc:language>
  <cp:lastModifiedBy>Sarah</cp:lastModifiedBy>
  <dcterms:modified xsi:type="dcterms:W3CDTF">2009-08-09T11:09:45Z</dcterms:modified>
  <cp:revision>23</cp:revision>
  <dc:subject/>
  <dc:title>Slide 1</dc:title>
</cp:coreProperties>
</file>